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6C9F-7B35-439E-A09B-97DD2478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67B5-0100-44F9-A345-2F24BA37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E836-CDD8-4DC3-A689-59A63987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8D78-C00C-455F-B4FF-BD7E8C2F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4AF4-E195-4306-981B-75E04D54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1582-C1C4-4A77-AE34-EDB0E567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7D91-D988-4816-91A5-C1A906D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A88E-15C1-4E66-B2D0-1827BFF1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DE96-158C-498B-9225-33D74EC7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1B3E-1AEF-4764-A81E-317EDF04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4D42-2F3A-4202-9686-4C8C18B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1BB8-6760-4DEB-B767-1260683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693-413B-47F2-AD68-3872D6C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F7A8-CBB4-4DD4-B82B-228331C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D882-2943-4AA6-AF2A-94722862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B6ED-0103-4D30-9F07-1FBAFF54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52E8-176C-44C7-B956-3BA606FC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3097-61AF-4A1E-BB21-E0446AA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BE27-2ABE-4EDD-AE6F-7C696110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33CD-A6C5-4E9F-8604-12902BB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394C-1453-485A-A071-912BA2B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AD70-CA2C-4DC5-87B3-2ED6C70D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D2D2-0940-4196-895C-B8030B2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6028-8D1C-4520-9205-D70E9B48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E42A-0BBF-4E94-99C4-2B21D5E8F8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E9D9-BB93-4B1E-8248-83C3833BE2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BLOOM'S TAXONOMY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61680"/>
            <a:ext cx="777240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concrete to 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prehens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-Or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ynthes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sual Learning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s Visual Representation of Id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s Diagrams and Out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Critical Think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zes and Clarifies Thoughts and Idea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ets Curriculum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ons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790640"/>
            <a:ext cx="8839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synchronous/asynchronous commun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s/Receives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s/Receives Video/Au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s/Receives Attach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5325" t="2720" r="10285" b="3474"/>
          <a:stretch/>
        </p:blipFill>
        <p:spPr>
          <a:xfrm>
            <a:off x="6095880" y="3384720"/>
            <a:ext cx="299736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iderations for us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pplic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52640" y="1790640"/>
            <a:ext cx="4800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Databas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with information that has repetitive patterns and can be easily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Spreadsheet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with sets of numbers that have repetitive patterns which can be described with at least two variables (Row &amp; Column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Word Processing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with information that can be paraphrased or organized in meaningful way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90640" y="1682640"/>
            <a:ext cx="4653000" cy="35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Brows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to access information or to engage in interactive learn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Presentation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to display information that can be enhanced by interactivit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Visual Learning Software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to create visual maps of ideas, deepen understanding of concepts, and tap creativit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Communication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when interactivity with others will enhance lear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628560" y="15699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~ KISS ~ Approach </a:t>
            </a:r>
            <a:br>
              <a:rPr sz="4400"/>
            </a:br>
            <a:r>
              <a:rPr b="1" i="1" lang="en-US" sz="3200" spc="-1" strike="noStrike">
                <a:solidFill>
                  <a:srgbClr val="dc0081"/>
                </a:solidFill>
                <a:latin typeface="Garamond"/>
              </a:rPr>
              <a:t>Keep it Simple Sweethe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714680"/>
            <a:ext cx="82296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with what students are to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problem for students to 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Computer tool - if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Students Learn </a:t>
            </a:r>
            <a:br>
              <a:rPr sz="4000"/>
            </a:br>
            <a:r>
              <a:rPr b="1" i="1" lang="en-US" sz="4000" spc="-1" strike="noStrike">
                <a:solidFill>
                  <a:srgbClr val="dc0081"/>
                </a:solidFill>
                <a:latin typeface="Garamond"/>
              </a:rPr>
              <a:t>Some Exam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90640"/>
            <a:ext cx="40384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 or mathematici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vil Rights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torical land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790640"/>
            <a:ext cx="38098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P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s and their 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ther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cities or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angered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volcano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lanets in Our Solar Syst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333440"/>
            <a:ext cx="80773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e5ff"/>
                </a:solidFill>
                <a:latin typeface="Times New Roman"/>
              </a:rPr>
              <a:t>Primary Learning obj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tion and Characteristics of each plan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e5ff"/>
                </a:solidFill>
                <a:latin typeface="Times New Roman"/>
              </a:rPr>
              <a:t>Primary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your life be different if you lived on another plane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628560" y="9604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lan activities that require higher-order thinking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95440" y="1662120"/>
            <a:ext cx="82422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what students will need to do to solve the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 many of the following as possi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zing ~ planning ~ modif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patterns ~ classif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equences ~ comparing/contr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ing ~ elaborating ~ analyzing ~ 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ample Activities that require Higher-Order Thinking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1400" y="900000"/>
            <a:ext cx="6946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1738440"/>
            <a:ext cx="732780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Planet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Planet data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synthesizing ~ analyzing ~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modif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net database to identify planet on which students would be oldest ~ young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recognizing patterns ~ analyz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comparing/contrasting ~ classifying ~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finding 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Sample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1400" y="900000"/>
            <a:ext cx="359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hich planet would you weigh the most ~ lea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7720" y="1814400"/>
            <a:ext cx="732780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lect Planet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planning ~ analyzing ~ synthesizing ~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 Planet spreadshe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planning ~ synthesizing ~ analyzing ~ 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modifying ~ calculating ~ cha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Planet spreadsheet to identify planet on which students would weigh the most ~ l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comparing/contrasting ~ analyz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Sample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1400" y="747720"/>
            <a:ext cx="405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modifications would your body need to survive on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7720" y="1814400"/>
            <a:ext cx="732780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ect Plane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 a Planet diagram to show similarities/differences between Earth and M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recognizing patterns ~ comparing/contrasting ~ finding sequences ~ classifying ~ analyz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PowerPoint to create a slideshow that describes the needed modific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classifying ~ comparing/contr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synthesizing ~ elaborating ~  evalu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o ~ What is Higher-Order Thinking?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othesizing ~ planning ~ modify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ognizing patterns ~ classify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ing sequences ~ comparing/contras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sizing ~ elaborating ~ analyzing ~ evalua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other words...higher-order thinking is any activity which requires student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c0081"/>
                </a:solidFill>
                <a:latin typeface="Garamond"/>
              </a:rPr>
              <a:t>process information in meaningful 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ince teachers are expected to use computers to engage students in Higher-Order Thinking..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dc0081"/>
                </a:solidFill>
                <a:latin typeface="Garamond"/>
              </a:rPr>
              <a:t>How do we do it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377172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ology Competent Teac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ive Instructional Strateg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ive Integration Meth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1280" y="2749680"/>
            <a:ext cx="3014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are the Functions of Basic Computer Applica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8200" y="2016000"/>
            <a:ext cx="475920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readshe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d Process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 Learning 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ows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28560" y="17226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65640" y="3489480"/>
            <a:ext cx="3368880" cy="2852640"/>
            <a:chOff x="5165640" y="3489480"/>
            <a:chExt cx="3368880" cy="28526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165640" y="3489480"/>
              <a:ext cx="336888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85920" y="3819600"/>
              <a:ext cx="1874520" cy="15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514"/>
                  </a:solidFill>
                  <a:latin typeface="Arial"/>
                </a:rPr>
                <a:t>Sor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514"/>
                  </a:solidFill>
                  <a:latin typeface="Arial"/>
                </a:rPr>
                <a:t>Matc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514"/>
                  </a:solidFill>
                  <a:latin typeface="Arial"/>
                </a:rPr>
                <a:t>Calculat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bas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38360"/>
            <a:ext cx="57150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 data in rec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rt data (alpha or numer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ch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g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specialized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3608280"/>
            <a:ext cx="35416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readsheet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Calcul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rt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Charts/Grap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91280" y="3075120"/>
            <a:ext cx="3436920" cy="36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d Processing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0400" y="1599840"/>
            <a:ext cx="4518000" cy="402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it and format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Out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Colum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te T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 Graph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628560" y="13413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51480" y="3295800"/>
            <a:ext cx="3263760" cy="2920680"/>
            <a:chOff x="5451480" y="3295800"/>
            <a:chExt cx="3263760" cy="29206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5451480" y="3295800"/>
              <a:ext cx="3263760" cy="29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102360" y="3541680"/>
              <a:ext cx="2062080" cy="1488960"/>
            </a:xfrm>
            <a:prstGeom prst="rect">
              <a:avLst/>
            </a:prstGeom>
            <a:solidFill>
              <a:srgbClr val="000514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562800" y="3692520"/>
              <a:ext cx="111132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owser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52320" y="1866600"/>
            <a:ext cx="5715000" cy="30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arches by  Key W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okmarks web s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erLinks to text, virtual tour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Interactive Feed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0120" y="3124080"/>
            <a:ext cx="3403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s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Navig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s Ani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s or Creates Graphics and Sound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s 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7:10:30Z</dcterms:created>
  <dc:creator>EBRPSS</dc:creator>
  <dc:description/>
  <dc:language>en-US</dc:language>
  <cp:lastModifiedBy>EBRPSS</cp:lastModifiedBy>
  <dcterms:modified xsi:type="dcterms:W3CDTF">2008-03-18T20:34:07Z</dcterms:modified>
  <cp:revision>7</cp:revision>
  <dc:subject/>
  <dc:title>BLOOM'S TAXONOMY </dc:title>
</cp:coreProperties>
</file>